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EDAA-372A-45A5-BC3C-E5FE4AE7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656B2-DD00-4F82-88AA-EE1BBC2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78F53-2A55-4BD0-BAFA-FB86BFE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F8BBA-6467-4DA9-8BAE-F28813C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90FED-7BCC-495D-A0C2-A3E8CAB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536D0-CA15-40F7-9320-DB2A3509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DB30A-52D8-4A6B-B96D-9582C486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8CF9B-8536-43CC-BD10-6A1641A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D51F4-A174-4E33-8A9A-6140EE7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94D94-09DE-4395-9A2F-A0DFB56D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514FD-ECFB-4A1F-9DF3-8E3159813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32443-22BB-4B90-A8DA-813C38F8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686E-90D5-45A3-BFFB-D3853689B42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19810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MIS Interface with Fabtro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3048120"/>
            <a:ext cx="6019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Frank Wang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971800" y="1143000"/>
          <a:ext cx="501480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143000"/>
                    <a:ext cx="50148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1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6483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tem_property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arries a description and a proerty valu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276720" y="1371600"/>
          <a:ext cx="5333760" cy="47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71600"/>
                    <a:ext cx="533376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0492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Definition of Main Assembly (2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43434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Structural_frame_item_relationshi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carries a description and a lab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828800"/>
          <a:ext cx="7694640" cy="383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28800"/>
                    <a:ext cx="76946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4572000" y="1523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I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Mar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1676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Part N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1905120"/>
            <a:ext cx="533520" cy="10666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133720"/>
            <a:ext cx="380880" cy="1523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3733560"/>
            <a:ext cx="2438280" cy="1522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57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Part Identifie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49400" y="1373040"/>
          <a:ext cx="8769240" cy="44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400" y="1373040"/>
                    <a:ext cx="876924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457200" y="380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Section Profiles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380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flavor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895480" y="1066680"/>
            <a:ext cx="1981440" cy="5335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219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ection profile defined in item_proper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2057400"/>
            <a:ext cx="762120" cy="251460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03:16:57Z</dcterms:created>
  <dc:creator>Eastman</dc:creator>
  <dc:description/>
  <dc:language>en-US</dc:language>
  <cp:lastModifiedBy>fwang</cp:lastModifiedBy>
  <dcterms:modified xsi:type="dcterms:W3CDTF">2002-05-06T15:46:04Z</dcterms:modified>
  <cp:revision>2</cp:revision>
  <dc:subject/>
  <dc:title>No Slide Title</dc:title>
</cp:coreProperties>
</file>